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C35-5D60-4A01-9B13-516E0591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E06-C4C4-44C1-9C8D-9966928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D68-7F04-4F8C-9AF3-576CB2DB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81B-510A-4398-84AB-B9537F21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984-6AA4-49DB-8EDA-338D74E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9E6-885F-4AF2-A2FA-321843B9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B5E-973B-40D8-84A0-D767AA5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50D-A996-4540-B42E-3F6671BB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B98-87C4-4E97-9354-9B5C0DBE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B09-B92D-4EC7-8FE4-21898DE0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400-A984-449E-B9C4-345993D1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0E3-2B02-409C-879D-0661E482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7775-109D-4C37-8766-7F220E46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olve%20Using%20Division.notebook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owerpoint%20and%20Senteo%20Questions/Solve%20Using%20Multiplication.notebook" TargetMode="External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owerpoint%20and%20Senteo%20Questions/Solve%20Multiplication%20and%20Division.notebook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1752120"/>
            <a:ext cx="4800600" cy="266724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ing Equations Using Multiplication and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09720" y="4800240"/>
            <a:ext cx="2210040" cy="106668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423600">
            <a:off x="2819520" y="685440"/>
            <a:ext cx="3504960" cy="723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3x = 15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5105520"/>
            <a:ext cx="21193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x/3 =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c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5812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Isolating the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s getting the variable (letter) by itself on one side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200400" y="2666880"/>
                <a:ext cx="25909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066680" y="3733920"/>
            <a:ext cx="717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solate the variable, we have to think what does 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qua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3240" y="525780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mean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3 TIMES a number is 12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have to do the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PPOSITE funct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posite of 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3623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visio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48120" y="3809880"/>
                <a:ext cx="25905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124080" y="4572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572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495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8720" y="4495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86200"/>
            <a:ext cx="53316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464832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629400" y="3809880"/>
            <a:ext cx="2057400" cy="2879640"/>
            <a:chOff x="6629400" y="3809880"/>
            <a:chExt cx="2057400" cy="2879640"/>
          </a:xfrm>
        </p:grpSpPr>
        <p:sp>
          <p:nvSpPr>
            <p:cNvPr id="62" name=""/>
            <p:cNvSpPr/>
            <p:nvPr/>
          </p:nvSpPr>
          <p:spPr>
            <a:xfrm>
              <a:off x="6629400" y="3809880"/>
              <a:ext cx="2057400" cy="1923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member to divide both sides of the equation by 3 to keep it balanced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7162920" y="5867280"/>
              <a:ext cx="990360" cy="8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0" y="3657600"/>
            <a:ext cx="2514600" cy="2228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3 divided by 3 is 1, we can cancel out the threes leaving x isolated on the left side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8120" y="5397480"/>
                <a:ext cx="25905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6019920"/>
            <a:ext cx="2514600" cy="6426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the question and so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19520"/>
            <a:ext cx="2530440" cy="642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get rid of the 3’s divide each side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the equations using divis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r = 2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t =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x = 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3x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v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g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4560" y="60958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olating the Variable when there is a denomin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581280" y="2286000"/>
                <a:ext cx="187956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146960" y="4419720"/>
            <a:ext cx="71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this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q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ea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89280" y="521820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means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a number divided by 3 is 5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895480"/>
            <a:ext cx="2666880" cy="131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need to get rid of the 3 to isolate the variable.  To do this you multip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33920" y="3276720"/>
                <a:ext cx="144756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657600" y="4114800"/>
            <a:ext cx="762120" cy="685800"/>
          </a:xfrm>
          <a:prstGeom prst="ellipse">
            <a:avLst/>
          </a:prstGeom>
          <a:solidFill>
            <a:srgbClr val="ffff00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6840" y="1752480"/>
            <a:ext cx="57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posite of divi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5400" y="251460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ltipl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have to do the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PPOSITE funct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3352680"/>
                <a:ext cx="8510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6781680" y="3276720"/>
            <a:ext cx="2057400" cy="2879640"/>
            <a:chOff x="6781680" y="3276720"/>
            <a:chExt cx="2057400" cy="2879640"/>
          </a:xfrm>
        </p:grpSpPr>
        <p:sp>
          <p:nvSpPr>
            <p:cNvPr id="85" name=""/>
            <p:cNvSpPr/>
            <p:nvPr/>
          </p:nvSpPr>
          <p:spPr>
            <a:xfrm>
              <a:off x="6781680" y="3276720"/>
              <a:ext cx="2057400" cy="1923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member to multiply both sides of the equation by 3 to keep it balanced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7315200" y="5334120"/>
              <a:ext cx="990360" cy="822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181480" y="3657600"/>
                <a:ext cx="803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895480" y="3505320"/>
            <a:ext cx="533520" cy="533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4114800"/>
            <a:ext cx="533160" cy="5335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81480"/>
            <a:ext cx="2514600" cy="6426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the question and so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733920" y="5029200"/>
                <a:ext cx="196344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400" y="4495680"/>
            <a:ext cx="2962080" cy="3682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3’s cancel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the equations using multiplicat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2209680"/>
                <a:ext cx="94608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143000" y="3200400"/>
                <a:ext cx="1060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66680" y="4114800"/>
                <a:ext cx="990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380880" y="1295280"/>
            <a:ext cx="38102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066680" y="1219320"/>
                <a:ext cx="939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66680" y="5029200"/>
                <a:ext cx="13716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66680" y="6029280"/>
                <a:ext cx="1041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562720" y="129528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66680" y="1676520"/>
                <a:ext cx="1524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43000" y="2438280"/>
                <a:ext cx="1066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19320" y="3733920"/>
                <a:ext cx="152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19320" y="4495680"/>
                <a:ext cx="1066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410080" y="1676520"/>
                <a:ext cx="1600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257800" y="2666880"/>
                <a:ext cx="22096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410080" y="3429000"/>
                <a:ext cx="1524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486400" y="4800600"/>
                <a:ext cx="1981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809880" y="5867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1:39Z</dcterms:created>
  <dc:creator>admin</dc:creator>
  <dc:description/>
  <dc:language>en-US</dc:language>
  <cp:lastModifiedBy>admin</cp:lastModifiedBy>
  <dcterms:modified xsi:type="dcterms:W3CDTF">2008-03-13T12:20:10Z</dcterms:modified>
  <cp:revision>16</cp:revision>
  <dc:subject/>
  <dc:title>Solving Equations Using Multiplication and Division</dc:title>
</cp:coreProperties>
</file>